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F1B8-DB7C-44D5-B599-F9790516D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43A2-B22C-4D94-B21C-349BE9105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D687-8DA8-418D-B4BE-5EC3341F2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C273-9027-4352-B2E5-CFC2D0DA2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5F00D-2C30-4AEF-A2B6-242FB28B4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C4902-B642-4C4D-BF30-C384F534A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2D975-6833-4625-8433-89C4E71C2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E7053-BB6B-4BAC-B26E-DA8EB8864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F808F-25DB-4D35-BC32-EAE7343CB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5AE51-16CF-401E-A112-28BD816D8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4E0F2-4915-4B7D-9718-35021E13A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084D-4E66-4014-A781-4AD716347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28FCD-A6E7-40DF-97F6-86BA0F434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0BD61-B8BC-4934-9978-090296BF1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C78A9-F21D-4F24-B0E0-DB5A62CFE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FDB57-7EA1-4196-B3DC-3804BC473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4D181-D7B2-4E20-80A5-E3E7836F2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5742-5C68-4294-B41C-81C7E1DA8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2903-4D65-4690-8275-6EF7486B0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4041-9E45-485F-95AD-50E5D2A85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123E-FEB9-40C9-81F0-1942FFD32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7C40-48E9-4D91-9FD4-99168C5E2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80FE-B4FD-429C-912C-A0F3B1219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544C-FB53-41FE-99D1-B6E40DDF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1A67F-C505-49A7-86FB-CE50FDC218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1A5A6-64F7-4F8A-8278-789874DAF2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114300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b5481"/>
                </a:solidFill>
                <a:latin typeface="Verdana"/>
              </a:rPr>
              <a:t>Question 3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057400" y="5562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b5481"/>
                </a:solidFill>
                <a:latin typeface="Tahoma"/>
              </a:rPr>
              <a:t>Ryan, Alecia, and Taihlor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Life as we know it could not exist without water. Water has the following properties…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) it is cohesive, they form hydrogen bonds with itsel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) it is adhesive, they form hydrogen bonds with other polar surfa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) it is a liquid at room body temperatur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) it has high specific he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) it has high heat of vaporiza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) it’s greatest density occurs at 4 degrees Celsiu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Question 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153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Question B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640080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Question C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981080" y="1981080"/>
            <a:ext cx="533412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Question 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905120" y="1676520"/>
            <a:ext cx="5715000" cy="44672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55520" y="46080"/>
            <a:ext cx="169092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Question 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600200" y="1433520"/>
            <a:ext cx="6019920" cy="44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Question F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752480" y="17524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Question 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219320" y="1631880"/>
            <a:ext cx="6705360" cy="44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14:10:22Z</dcterms:created>
  <dc:creator>xpstudent</dc:creator>
  <dc:description/>
  <dc:language>en-US</dc:language>
  <cp:lastModifiedBy>xpstudent</cp:lastModifiedBy>
  <dcterms:modified xsi:type="dcterms:W3CDTF">2010-09-22T14:38:08Z</dcterms:modified>
  <cp:revision>4</cp:revision>
  <dc:subject/>
  <dc:title>Question 3 </dc:title>
</cp:coreProperties>
</file>